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7817-9B8F-4253-A896-C931B1730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5BF-F140-488E-A598-80A12759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96B-D02B-496E-8892-F21AFA54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BEC-0257-4023-A696-8F581A13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BE5-E878-4019-92A4-543C4453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3F8-34D0-4063-A694-AE1D7070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877D-7860-42C9-87B3-8CA8862F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EBCF-C120-4DF0-BDCA-52BB69A8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274-6AE3-484E-A93B-F50C4838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83C-B8B4-4411-9AD8-563491BA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B7D-1B64-4BEF-969E-18BE5216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358-7C7C-4B60-A340-C0F659A1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C9C8-91E6-4B52-ACFD-08B0D16B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7815-2C32-4102-9ADE-C3568C4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DDD-3F3D-4EA2-9582-8B86572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1F72-D86D-4C06-A34F-34A2240D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491-25CD-46DC-AB22-0E6BAB8B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210-291C-481E-85F9-C5168F5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15BF-5A92-4FB2-9169-B64303C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F0F-D414-4F35-AA20-676C1EE6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DAD7-4798-4C80-923F-0ADB615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A78-F6A1-4141-8E9C-7ABA91C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0670-9AA6-423A-8AF4-C61623CE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A5C7-D8A0-4F35-ADD0-6DA82D4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7BD4-E234-46A1-95D7-970EA66E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E06-C20C-4670-9590-7950E65F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3AB-0667-4C20-A136-9A4642E8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DB4-1F24-457C-B00F-4BC7300F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402-6964-4072-BC7A-B9EBE03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963-5A78-4EF0-BE49-E40D680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F33-D0B0-4CFA-B96B-B3CFFF25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AAC-27D8-4209-97DE-0E64A16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AAB-EBE8-4847-88F2-BD5A1B57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026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1027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1028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29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30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031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32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033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4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35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36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37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8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39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40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41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42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43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44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45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46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047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48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49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050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051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52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053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54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55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56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057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58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059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60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61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62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63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64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65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66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7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68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9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70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71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072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073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074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75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76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77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078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079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080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081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082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083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084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85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086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87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088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9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090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5CE5-4D3B-44CB-8C4D-26DAF583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es NYSAFLT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ffer to member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657600" y="2860560"/>
            <a:ext cx="50292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200x200NYSAFLTLogo"/>
          <p:cNvPicPr/>
          <p:nvPr/>
        </p:nvPicPr>
        <p:blipFill>
          <a:blip r:embed="rId1"/>
          <a:stretch/>
        </p:blipFill>
        <p:spPr>
          <a:xfrm>
            <a:off x="1143000" y="2819520"/>
            <a:ext cx="179244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 all @ NYSAFLT.or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and State opportunities to advocate for L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-to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5625" t="10998" r="6877" b="5608"/>
          <a:stretch/>
        </p:blipFill>
        <p:spPr>
          <a:xfrm>
            <a:off x="-66600" y="457200"/>
            <a:ext cx="9210600" cy="5486400"/>
          </a:xfrm>
          <a:prstGeom prst="rect">
            <a:avLst/>
          </a:prstGeom>
          <a:ln w="9360">
            <a:solidFill>
              <a:srgbClr val="f3f3f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 all @ NYSAFLT.or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suppor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ign Language Website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cast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nts as Language Partner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serv archives (Members and Job Plac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 all @ NYSAFLT.or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ren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ds, scholarships, and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for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asting/Videocasting via iT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placement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uch, much, mor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1"/>
          <a:srcRect l="22503" t="16001" r="23752" b="12000"/>
          <a:stretch/>
        </p:blipFill>
        <p:spPr>
          <a:xfrm>
            <a:off x="990720" y="380880"/>
            <a:ext cx="73152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mbership - Best deal around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316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5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ssociate (part-time or unemploy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ti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ull-tim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NYSAFLT_PATCH.jpg"/>
          <p:cNvPicPr/>
          <p:nvPr/>
        </p:nvPicPr>
        <p:blipFill>
          <a:blip r:embed="rId1"/>
          <a:stretch/>
        </p:blipFill>
        <p:spPr>
          <a:xfrm>
            <a:off x="6095880" y="3913200"/>
            <a:ext cx="29750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41:44Z</dcterms:created>
  <dc:creator>Kenneth Hughes</dc:creator>
  <dc:description/>
  <dc:language>en-US</dc:language>
  <cp:lastModifiedBy>Jenine Nowakowski</cp:lastModifiedBy>
  <dcterms:modified xsi:type="dcterms:W3CDTF">2015-12-31T04:13:40Z</dcterms:modified>
  <cp:revision>40</cp:revision>
  <dc:subject/>
  <dc:title>NYSAFLT/NYCAFLT/UFT Annual Conference 2011</dc:title>
</cp:coreProperties>
</file>